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7853E-EA43-458E-A5BF-19DA239F2DD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AD3DA-4DF9-4733-908D-E223F6ED899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掌握：</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呋噻米、氢氯噻嗪、螺内酯的作用特点、机制、临床应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呋噻米、氢氯噻嗪、螺内酯的主要不良反应及药疗监护须知。</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1" lang="zh-CN" sz="1200" spc="-1" strike="noStrike">
                <a:solidFill>
                  <a:srgbClr val="000000"/>
                </a:solidFill>
                <a:latin typeface="Calibri"/>
                <a:ea typeface="宋体"/>
              </a:rPr>
              <a:t>熟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利尿药物按利尿效能和作用部位的分类及其主要利尿机制；</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氨苯蝶啶作用特点、利尿机制、临床应用、不良反应。</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1" lang="zh-CN" sz="1200" spc="-1" strike="noStrike">
                <a:solidFill>
                  <a:srgbClr val="000000"/>
                </a:solidFill>
                <a:latin typeface="Calibri"/>
                <a:ea typeface="宋体"/>
              </a:rPr>
              <a:t>了解：</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0" lang="zh-CN" sz="1200" spc="-1" strike="noStrike">
                <a:solidFill>
                  <a:srgbClr val="000000"/>
                </a:solidFill>
                <a:latin typeface="Calibri"/>
                <a:ea typeface="宋体"/>
              </a:rPr>
              <a:t>常用脱水药（又称渗透性利尿药）甘露醇、山梨醇和高渗葡萄糖（</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的作用特点、临床应用和不良反应。</a:t>
            </a:r>
            <a:endParaRPr b="0" lang="en-US" sz="1200" spc="-1" strike="noStrike">
              <a:solidFill>
                <a:srgbClr val="000000"/>
              </a:solidFill>
              <a:latin typeface="Calibri"/>
            </a:endParaRPr>
          </a:p>
        </p:txBody>
      </p:sp>
      <p:sp>
        <p:nvSpPr>
          <p:cNvPr id="1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9919C-B91A-446B-9BEB-2084AAF8787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F6A7D-222C-4625-BC3B-51D3C75A264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537C7-59B5-42A0-A96F-014872EFF74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457CD-A7EF-4FED-8CC8-78F32A9F884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D0BF9-F99B-440D-86CC-DBC8AD7DB5C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B224B-0324-47F8-962C-55B75D91C2B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3790D-36E7-474E-AD19-E45D8CB2022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CC426-458C-4E9D-8DD5-A7DDEFD83E2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DA8D2-7C02-4789-BEF1-B89FA8BB7D0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72B31-5769-4A70-B9A5-F8D6B03202A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295B37-0E71-498B-837F-6445828AD2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A283A17-A87D-45B8-9CDE-4D8A54B539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E48F5D3-CC0E-40A8-A51F-EBF7168838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6AE59B8-BB9A-4704-ADAE-A5B82F89A9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5778BDE-3F86-4783-9F13-320D816A60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71B7BDD-6500-418A-A9EA-9BF464505C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486403D-BAFB-4C8F-AE6A-18F9CFBA41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9CF2A8C-B8C8-43FC-87C4-1EDB5DA966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48B5176-0F3C-486A-87ED-27027BF7CF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5999B0-12A7-4502-888A-C36A59BC03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556F723-7BBF-4342-838F-DCFC21F10C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772BCF3-6557-490F-9A1D-964D9F64E7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D6EC0-FDCF-4DDD-80BB-5EFD1907F09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第二十一章</a:t>
            </a:r>
            <a:br>
              <a:rPr sz="4800"/>
            </a:br>
            <a:r>
              <a:rPr b="1" lang="zh-CN" sz="4800" spc="-1" strike="noStrike">
                <a:solidFill>
                  <a:srgbClr val="ffffff"/>
                </a:solidFill>
                <a:latin typeface="华文新魏"/>
                <a:ea typeface="华文新魏"/>
              </a:rPr>
              <a:t>利尿药和脱水药</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中效利尿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噻嗪类</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氢氯噻嗪（</a:t>
            </a:r>
            <a:r>
              <a:rPr b="1" lang="en-US" sz="3200" spc="-1" strike="noStrike">
                <a:solidFill>
                  <a:srgbClr val="8ac8de"/>
                </a:solidFill>
                <a:latin typeface="Times New Roman"/>
                <a:ea typeface="华文新魏"/>
              </a:rPr>
              <a:t>hydrochlorothiazide</a:t>
            </a:r>
            <a:r>
              <a:rPr b="1" lang="zh-CN" sz="3200" spc="-1" strike="noStrike">
                <a:solidFill>
                  <a:srgbClr val="8ac8de"/>
                </a:solidFill>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作用部位主要在远曲小管近端，抑制对</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共同转运载体，使</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重吸收减少，尿量增多，尿中排出</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因</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交换增加，</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排泄也增多</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利尿和轻度抗碳酸酐酶作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1" name=""/>
          <p:cNvSpPr txBox="1"/>
          <p:nvPr/>
        </p:nvSpPr>
        <p:spPr>
          <a:xfrm>
            <a:off x="304920" y="1371600"/>
            <a:ext cx="8610480" cy="5200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各种原因引起的水肿</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心源性水肿效果较好</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肾性水肿的疗效与肾功能损害程度有关，损害轻者效果好，反之效果差</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尿崩症</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多见低钾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血糖、高血脂症</a:t>
            </a:r>
            <a:endParaRPr b="0" lang="en-US" sz="28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4"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低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螺内酯（</a:t>
            </a:r>
            <a:r>
              <a:rPr b="1" lang="en-US" sz="3200" spc="-1" strike="noStrike">
                <a:solidFill>
                  <a:srgbClr val="8ac8de"/>
                </a:solidFill>
                <a:latin typeface="Times New Roman"/>
                <a:ea typeface="华文新魏"/>
              </a:rPr>
              <a:t>spironolactone</a:t>
            </a:r>
            <a:r>
              <a:rPr b="1" lang="zh-CN" sz="3200" spc="-1" strike="noStrike">
                <a:solidFill>
                  <a:srgbClr val="8ac8de"/>
                </a:solidFill>
                <a:latin typeface="Times New Roman"/>
                <a:ea typeface="华文新魏"/>
              </a:rPr>
              <a:t>，安体舒通）</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作用于远曲小管和集合管，与醛固酮竞争远曲小管及集合管细胞浆内的醛固酮受体，干扰醛固酮调节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机制，抑制</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减少</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再吸收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的分泌，促使尿量增加，尿中</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增加，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减少</a:t>
            </a:r>
            <a:endParaRPr b="0" lang="en-US" sz="26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伴有醛固酮升高的水肿，如肝硬化、肾病综合征、慢性充血性心力衰竭。也可用于原发性醛固酮增多症</a:t>
            </a:r>
            <a:endParaRPr b="0" lang="en-US" sz="26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和禁忌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头痛、嗜睡、精神混乱、疲乏</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内分泌</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有性激素样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胃肠道</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腹痛、恶心、呕吐、厌食、腹泻</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其他</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皮疹；水电失衡（特别是高钾、低钠），血尿素氮升高，长期应用可引起高血钾症</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肾功能不良及高血钾者禁用</a:t>
            </a:r>
            <a:endParaRPr b="0" lang="en-US" sz="2800" spc="-1" strike="noStrike">
              <a:solidFill>
                <a:srgbClr val="046ca6"/>
              </a:solidFill>
              <a:latin typeface="Arial"/>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50" name=""/>
          <p:cNvSpPr txBox="1"/>
          <p:nvPr/>
        </p:nvSpPr>
        <p:spPr>
          <a:xfrm>
            <a:off x="285840" y="999720"/>
            <a:ext cx="8610480" cy="5643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告诉患者利尿作用需服药后</a:t>
            </a: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天才起效，</a:t>
            </a:r>
            <a:r>
              <a:rPr b="0" lang="en-US" sz="2400" spc="-1" strike="noStrike">
                <a:solidFill>
                  <a:srgbClr val="046ca6"/>
                </a:solidFill>
                <a:latin typeface="Times New Roman"/>
                <a:ea typeface="华文新魏"/>
              </a:rPr>
              <a:t>2~3</a:t>
            </a:r>
            <a:r>
              <a:rPr b="0" lang="zh-CN" sz="2400" spc="-1" strike="noStrike">
                <a:solidFill>
                  <a:srgbClr val="046ca6"/>
                </a:solidFill>
                <a:latin typeface="Times New Roman"/>
                <a:ea typeface="华文新魏"/>
              </a:rPr>
              <a:t>天达高峰，停药后仍持续</a:t>
            </a:r>
            <a:r>
              <a:rPr b="0" lang="en-US" sz="2400" spc="-1" strike="noStrike">
                <a:solidFill>
                  <a:srgbClr val="046ca6"/>
                </a:solidFill>
                <a:latin typeface="Times New Roman"/>
                <a:ea typeface="华文新魏"/>
              </a:rPr>
              <a:t>5~6</a:t>
            </a:r>
            <a:r>
              <a:rPr b="0" lang="zh-CN" sz="2400" spc="-1" strike="noStrike">
                <a:solidFill>
                  <a:srgbClr val="046ca6"/>
                </a:solidFill>
                <a:latin typeface="Times New Roman"/>
                <a:ea typeface="华文新魏"/>
              </a:rPr>
              <a:t>天</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2.</a:t>
            </a:r>
            <a:r>
              <a:rPr b="0" lang="zh-CN" sz="2400" spc="-1" strike="noStrike">
                <a:solidFill>
                  <a:srgbClr val="046ca6"/>
                </a:solidFill>
                <a:latin typeface="Times New Roman"/>
                <a:ea typeface="华文新魏"/>
              </a:rPr>
              <a:t>向性功能紊乱、性激素样作用及性功能障碍的患者说明此为药物副作用，停药后自行消失</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3.</a:t>
            </a:r>
            <a:r>
              <a:rPr b="0" lang="zh-CN" sz="2400" spc="-1" strike="noStrike">
                <a:solidFill>
                  <a:srgbClr val="046ca6"/>
                </a:solidFill>
                <a:latin typeface="Times New Roman"/>
                <a:ea typeface="华文新魏"/>
              </a:rPr>
              <a:t>与食物同服可加强吸收，药片可压碎服用</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服用此药有嗜睡症状的者不要驾车，高空作业或操作有危险的机器</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服药期间应少食含钾丰富的食物</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肝硬化腹水患者每日测体重并观察疗效</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可引起粒细胞缺乏、血小板减少症，故用药期间注意血象变化</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脱水药是一类能迅速提高血浆渗透压，使组织脱水的药物，因有渗透性利尿作用，又称为渗透性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共同特性</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①</a:t>
            </a:r>
            <a:r>
              <a:rPr b="0" lang="zh-CN" sz="2800" spc="-1" strike="noStrike">
                <a:solidFill>
                  <a:srgbClr val="046ca6"/>
                </a:solidFill>
                <a:latin typeface="Times New Roman"/>
                <a:ea typeface="华文新魏"/>
              </a:rPr>
              <a:t>静注后不易从血管透入组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②</a:t>
            </a:r>
            <a:r>
              <a:rPr b="0" lang="zh-CN" sz="2800" spc="-1" strike="noStrike">
                <a:solidFill>
                  <a:srgbClr val="046ca6"/>
                </a:solidFill>
                <a:latin typeface="Times New Roman"/>
                <a:ea typeface="华文新魏"/>
              </a:rPr>
              <a:t>易经肾小球滤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③</a:t>
            </a:r>
            <a:r>
              <a:rPr b="0" lang="zh-CN" sz="2800" spc="-1" strike="noStrike">
                <a:solidFill>
                  <a:srgbClr val="046ca6"/>
                </a:solidFill>
                <a:latin typeface="Times New Roman"/>
                <a:ea typeface="华文新魏"/>
              </a:rPr>
              <a:t>不易被肾小管再吸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④</a:t>
            </a:r>
            <a:r>
              <a:rPr b="0" lang="zh-CN" sz="2800" spc="-1" strike="noStrike">
                <a:solidFill>
                  <a:srgbClr val="046ca6"/>
                </a:solidFill>
                <a:latin typeface="Times New Roman"/>
                <a:ea typeface="华文新魏"/>
              </a:rPr>
              <a:t>体内不被代谢或少被代谢</a:t>
            </a:r>
            <a:endParaRPr b="0" lang="en-US" sz="28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甘露醇（</a:t>
            </a:r>
            <a:r>
              <a:rPr b="1" lang="en-US" sz="3200" spc="-1" strike="noStrike">
                <a:solidFill>
                  <a:srgbClr val="8ac8de"/>
                </a:solidFill>
                <a:latin typeface="Times New Roman"/>
                <a:ea typeface="华文新魏"/>
              </a:rPr>
              <a:t>mannitol</a:t>
            </a:r>
            <a:r>
              <a:rPr b="1" lang="zh-CN" sz="3200" spc="-1" strike="noStrike">
                <a:solidFill>
                  <a:srgbClr val="8ac8de"/>
                </a:solidFill>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特点和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增加近曲小管的渗透压，水和电解质经肾脏排出，起到脱水和利尿作用</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静注时，可迅速提高血浆渗透压，使组织间液水分向血浆转移，减少脑脊液和房水，降低颅压和眼压</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通过增加血容量及扩张肾血管而增加肾血流量和肾小球滤过率</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对</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重吸收，干扰髓质高渗的形成，使集合管对水的重吸收减少，排出大量低渗尿</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临床应用</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脑肿瘤、脑外伤、脑组织炎症及缺氧等引起的脑水肿，是安全、有效地降低颅内压的首选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青光眼患者术前应用可以短时降低眼内压，以利手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预防急性肾功能衰竭</a:t>
            </a:r>
            <a:endParaRPr b="0" lang="en-US" sz="2800" spc="-1" strike="noStrike">
              <a:solidFill>
                <a:srgbClr val="046ca6"/>
              </a:solidFill>
              <a:latin typeface="Arial"/>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62"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少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注射过快可引起一过性头疼、眩晕和视力模糊</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可使血容量迅速增加，心功能不全及急性肺水肿患者禁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注射液浓度高，在室温较低时易析出结晶，用前对光仔细检查</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密切观察出入量，测每小时尿量，并作好记录</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血压、脉搏、呼吸，防止出现心功能不全</a:t>
            </a:r>
            <a:endParaRPr b="0" lang="en-US" sz="26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65"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静注或静滴时，</a:t>
            </a:r>
            <a:r>
              <a:rPr b="0" lang="en-US" sz="2400" spc="-1" strike="noStrike">
                <a:solidFill>
                  <a:srgbClr val="046ca6"/>
                </a:solidFill>
                <a:latin typeface="Times New Roman"/>
                <a:ea typeface="华文新魏"/>
              </a:rPr>
              <a:t>250ml</a:t>
            </a:r>
            <a:r>
              <a:rPr b="0" lang="zh-CN" sz="2400" spc="-1" strike="noStrike">
                <a:solidFill>
                  <a:srgbClr val="046ca6"/>
                </a:solidFill>
                <a:latin typeface="Times New Roman"/>
                <a:ea typeface="华文新魏"/>
              </a:rPr>
              <a:t>液体应在</a:t>
            </a:r>
            <a:r>
              <a:rPr b="0" lang="en-US" sz="2400" spc="-1" strike="noStrike">
                <a:solidFill>
                  <a:srgbClr val="046ca6"/>
                </a:solidFill>
                <a:latin typeface="Times New Roman"/>
                <a:ea typeface="华文新魏"/>
              </a:rPr>
              <a:t>20~30</a:t>
            </a:r>
            <a:r>
              <a:rPr b="0" lang="zh-CN" sz="2400" spc="-1" strike="noStrike">
                <a:solidFill>
                  <a:srgbClr val="046ca6"/>
                </a:solidFill>
                <a:latin typeface="Times New Roman"/>
                <a:ea typeface="华文新魏"/>
              </a:rPr>
              <a:t>分钟内静注完毕，静注过快，可引起一过性头痛、视物模糊、眩晕、畏寒等，但注射速度过慢影响治疗效果</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静脉注射避免药液外漏，药物渗至皮下可引起水肿或组织坏死</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不能与其他药物混合静滴，严禁作肌肉或皮下注射</a:t>
            </a:r>
            <a:endParaRPr b="0" lang="en-US" sz="24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13" name=""/>
          <p:cNvSpPr txBox="1"/>
          <p:nvPr/>
        </p:nvSpPr>
        <p:spPr>
          <a:xfrm>
            <a:off x="304920" y="1371240"/>
            <a:ext cx="8610480" cy="5057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呋噻米、氢氯噻嗪、螺内酯的作用特点、机制、临床应用、主要不良反应及药疗监护须知</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药物按利尿效能和作用部位的分类及其主要利尿机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氨苯蝶啶的作用特点、利尿机制、临床应用、不良反应</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了解</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常用脱水药作用特点、临床应用和不良反应</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下列利尿作用最强的药物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布美他尼</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依他尼酸</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乙酰唑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常用于治疗原发性高血压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螺内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圆角矩形 1"/>
          <p:cNvSpPr/>
          <p:nvPr/>
        </p:nvSpPr>
        <p:spPr>
          <a:xfrm>
            <a:off x="611280" y="1413000"/>
            <a:ext cx="8137440" cy="489564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60</a:t>
            </a:r>
            <a:r>
              <a:rPr b="0" lang="zh-CN" sz="2800" spc="-1" strike="noStrike">
                <a:solidFill>
                  <a:srgbClr val="046ca6"/>
                </a:solidFill>
                <a:latin typeface="华文新魏"/>
                <a:ea typeface="华文新魏"/>
              </a:rPr>
              <a:t>岁，因慢性心力衰竭服用呋塞米治疗，近期因感染需应用抗</a:t>
            </a: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生素治疗，因合用易增强耳毒性，需要避免应用的一类抗生素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林可霉素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B .β</a:t>
            </a:r>
            <a:r>
              <a:rPr b="0" lang="zh-CN" sz="2800" spc="-1" strike="noStrike">
                <a:solidFill>
                  <a:srgbClr val="046ca6"/>
                </a:solidFill>
                <a:latin typeface="华文新魏"/>
                <a:ea typeface="华文新魏"/>
              </a:rPr>
              <a:t>内酰胺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四环素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氨基糖苷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霉素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使房水生成减少，治疗青光眼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依他尼酸</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螺内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氨苯蝶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与醛固酮竞争拮抗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螺内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呋塞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圆角矩形 1"/>
          <p:cNvSpPr/>
          <p:nvPr/>
        </p:nvSpPr>
        <p:spPr>
          <a:xfrm>
            <a:off x="611280" y="1413000"/>
            <a:ext cx="7993080" cy="489564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0</a:t>
            </a:r>
            <a:r>
              <a:rPr b="0" lang="zh-CN" sz="2800" spc="-1" strike="noStrike">
                <a:solidFill>
                  <a:srgbClr val="046ca6"/>
                </a:solidFill>
                <a:latin typeface="华文新魏"/>
                <a:ea typeface="华文新魏"/>
              </a:rPr>
              <a:t>岁，因慢性心力衰竭入院治疗。入院后查血电解质发现血钾明显升高，为避免进一步引起血钾升高，应避免应用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布美他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案例</a:t>
            </a:r>
            <a:endParaRPr b="0" lang="en-US" sz="4000" spc="-1" strike="noStrike">
              <a:solidFill>
                <a:srgbClr val="ffffff"/>
              </a:solidFill>
              <a:latin typeface="Verdana"/>
            </a:endParaRPr>
          </a:p>
        </p:txBody>
      </p:sp>
      <p:sp>
        <p:nvSpPr>
          <p:cNvPr id="116" name=""/>
          <p:cNvSpPr txBox="1"/>
          <p:nvPr/>
        </p:nvSpPr>
        <p:spPr>
          <a:xfrm>
            <a:off x="304920" y="1267920"/>
            <a:ext cx="8610480" cy="5256360"/>
          </a:xfrm>
          <a:prstGeom prst="rect">
            <a:avLst/>
          </a:prstGeom>
          <a:noFill/>
          <a:ln w="0">
            <a:noFill/>
          </a:ln>
        </p:spPr>
        <p:txBody>
          <a:bodyPr anchor="t">
            <a:norm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        </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8" name="圆角矩形 1"/>
          <p:cNvSpPr/>
          <p:nvPr/>
        </p:nvSpPr>
        <p:spPr>
          <a:xfrm>
            <a:off x="395280" y="1484280"/>
            <a:ext cx="8209080" cy="4969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6</a:t>
            </a:r>
            <a:r>
              <a:rPr b="0" lang="zh-CN" sz="2800" spc="-1" strike="noStrike">
                <a:solidFill>
                  <a:srgbClr val="046ca6"/>
                </a:solidFill>
                <a:latin typeface="华文新魏"/>
                <a:ea typeface="华文新魏"/>
              </a:rPr>
              <a:t>岁，主因端坐呼吸，双下肢水肿，以“慢性心力衰竭急性加重”收入院。</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入院后医嘱给予地高辛、卡托普利、呋塞米治疗，</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后上述症状逐渐缓解。</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天前，患者主诉乏力明显，走路不稳，整个人没有精神，急查血电解质示：血钾</a:t>
            </a:r>
            <a:r>
              <a:rPr b="0" lang="en-US" sz="2800" spc="-1" strike="noStrike">
                <a:solidFill>
                  <a:srgbClr val="046ca6"/>
                </a:solidFill>
                <a:latin typeface="华文新魏"/>
                <a:ea typeface="华文新魏"/>
              </a:rPr>
              <a:t>3.3mmol/L</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案例</a:t>
            </a:r>
            <a:endParaRPr b="0" lang="en-US" sz="4000" spc="-1" strike="noStrike">
              <a:solidFill>
                <a:srgbClr val="ffffff"/>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1116000" y="1989000"/>
            <a:ext cx="7416720" cy="3168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出现乏力、行走不稳等症状的原因是什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作为责任护士，此时患者最主要的问题是什么？应采取哪些护理措施应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常用的利尿药大多数是通过抑制肾小管和集合管重吸收而起利尿作用的，按利尿效能和作用部位分为三类</a:t>
            </a:r>
            <a:endParaRPr b="1" lang="en-US" sz="32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高效利尿药</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中效利尿药</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效利尿药</a:t>
            </a:r>
            <a:endParaRPr b="0" lang="en-US" sz="2800" spc="-1" strike="noStrike">
              <a:solidFill>
                <a:srgbClr val="046ca6"/>
              </a:solidFill>
              <a:latin typeface="Arial"/>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6" name=""/>
          <p:cNvSpPr txBox="1"/>
          <p:nvPr/>
        </p:nvSpPr>
        <p:spPr>
          <a:xfrm>
            <a:off x="304920" y="1071360"/>
            <a:ext cx="8610480" cy="5500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高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ac8de"/>
                </a:solidFill>
                <a:latin typeface="Times New Roman"/>
                <a:ea typeface="华文新魏"/>
              </a:rPr>
              <a:t>呋塞米（</a:t>
            </a:r>
            <a:r>
              <a:rPr b="0" lang="en-US" sz="3200" spc="-1" strike="noStrike">
                <a:solidFill>
                  <a:srgbClr val="8ac8de"/>
                </a:solidFill>
                <a:latin typeface="Times New Roman"/>
                <a:ea typeface="华文新魏"/>
              </a:rPr>
              <a:t>furosemide</a:t>
            </a:r>
            <a:r>
              <a:rPr b="0" lang="zh-CN" sz="3200" spc="-1" strike="noStrike">
                <a:solidFill>
                  <a:srgbClr val="8ac8de"/>
                </a:solidFill>
                <a:latin typeface="Times New Roman"/>
                <a:ea typeface="华文新魏"/>
              </a:rPr>
              <a:t>，呋喃苯胺酸，速尿）</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理作用和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利尿作用</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2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共同转运载体，促进</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和水分大量排出</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促进肾素的释放，进而使醛固酮分泌增多，促进远曲小管</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使</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泄增多</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影响血流动力学：增加肾血流量，尤其是皮质深部血流量</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对</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重吸收，增加</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排泄</a:t>
            </a:r>
            <a:endParaRPr b="0" lang="en-US" sz="2600" spc="-1" strike="noStrike">
              <a:solidFill>
                <a:srgbClr val="046ca6"/>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9" name=""/>
          <p:cNvSpPr txBox="1"/>
          <p:nvPr/>
        </p:nvSpPr>
        <p:spPr>
          <a:xfrm>
            <a:off x="285840" y="1071720"/>
            <a:ext cx="8610480" cy="4876560"/>
          </a:xfrm>
          <a:prstGeom prst="rect">
            <a:avLst/>
          </a:prstGeom>
          <a:noFill/>
          <a:ln w="0">
            <a:noFill/>
          </a:ln>
        </p:spPr>
        <p:txBody>
          <a:bodyPr anchor="t">
            <a:normAutofit fontScale="94000"/>
          </a:bodyPr>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严重水肿</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呋塞米可用于心、肝及肾性水肿的治疗，尤其是对其他利尿药无效的严重水肿</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急性肺水肿和脑水肿</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肾功能不全</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加速毒物排泄</a:t>
            </a:r>
            <a:endParaRPr b="0" lang="en-US" sz="2800" spc="-1" strike="noStrike">
              <a:solidFill>
                <a:srgbClr val="046ca6"/>
              </a:solidFill>
              <a:latin typeface="Arial"/>
            </a:endParaRPr>
          </a:p>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耳毒性</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2" name=""/>
          <p:cNvSpPr txBox="1"/>
          <p:nvPr/>
        </p:nvSpPr>
        <p:spPr>
          <a:xfrm>
            <a:off x="324000" y="1052640"/>
            <a:ext cx="8610480" cy="48765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不良反应</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其他</a:t>
            </a:r>
            <a:r>
              <a:rPr b="0" lang="en-US" sz="2600" spc="-1" strike="noStrike">
                <a:solidFill>
                  <a:srgbClr val="046ca6"/>
                </a:solidFill>
                <a:latin typeface="Times New Roman"/>
                <a:ea typeface="华文新魏"/>
              </a:rPr>
              <a:t>:</a:t>
            </a:r>
            <a:r>
              <a:rPr b="0" lang="zh-CN" sz="2600" spc="-1" strike="noStrike">
                <a:solidFill>
                  <a:srgbClr val="046ca6"/>
                </a:solidFill>
                <a:latin typeface="Times New Roman"/>
                <a:ea typeface="华文新魏"/>
              </a:rPr>
              <a:t>恶心、呕吐、腹胀、上腹痛、胃肠道出血等胃肠道反应。少数发生粒细胞、血小板减少、溶血性贫血等</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作好用药前护理</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记录出入量、体重、观察水肿的体征变化</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电解质紊乱症状</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用药期间增加高钾食物，限制高钠食物</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600" spc="-1" strike="noStrike">
                <a:solidFill>
                  <a:srgbClr val="046ca6"/>
                </a:solidFill>
                <a:latin typeface="Times New Roman"/>
                <a:ea typeface="华文新魏"/>
              </a:rPr>
              <a:t>同时用洋地黄，注意观察心率、心律，避免发生洋地黄毒性反应</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5"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易诱发肝性脑病，严重肝功能不全者慎用</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排尿量过多易产生脱水及血压降低，引起体位性低血压</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8.</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静脉注射时应稀释后缓慢注入，注射过快导致心律失常</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不宜与其他药混合注射</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9.</a:t>
            </a:r>
            <a:r>
              <a:rPr b="0" lang="zh-CN" sz="2400" spc="-1" strike="noStrike">
                <a:solidFill>
                  <a:srgbClr val="046ca6"/>
                </a:solidFill>
                <a:latin typeface="Times New Roman"/>
                <a:ea typeface="华文新魏"/>
              </a:rPr>
              <a:t>肌注可产生疼痛，能自行消失</a:t>
            </a:r>
            <a:endParaRPr b="0" lang="en-US" sz="2400" spc="-1" strike="noStrike">
              <a:solidFill>
                <a:srgbClr val="046ca6"/>
              </a:solidFill>
              <a:latin typeface="Arial"/>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4T03:32:5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